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33E4-6408-4963-A942-B7CC8122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BDE-04A6-4042-A972-4E5FBCCE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857-1FF5-4B57-BC52-30C40F94A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9D7-65CB-47E2-8A6D-EE908CBA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C74-9DF5-4AB0-AA6B-FB822296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4DD-EE45-4D21-8667-B9891EA2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E2C-FE3D-4283-9284-74478CB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A80-6964-4900-8F2F-1D867C2B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ECA-02A9-457B-9529-9746D5B3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20D-041B-4203-8170-95060276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1E5-E8B4-47CD-B902-ED301C8B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49E6-38B9-4303-B051-F3511CE2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1318-D6E8-41E1-8F3B-C254C6D70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5280" y="404640"/>
          <a:ext cx="8424720" cy="638208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4720"/>
                <a:gridCol w="1403640"/>
                <a:gridCol w="1404720"/>
                <a:gridCol w="1403280"/>
              </a:tblGrid>
              <a:tr h="125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l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muj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goí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n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539640" y="2349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34290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349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476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1700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2924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4437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5589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3280" y="1484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51640" y="476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84720" y="14130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1700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451640" y="2924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4437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5661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5280" y="404640"/>
          <a:ext cx="8424720" cy="638208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4720"/>
                <a:gridCol w="1403640"/>
                <a:gridCol w="1404720"/>
                <a:gridCol w="1403280"/>
              </a:tblGrid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ten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l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a muj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goí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lfi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r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i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n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539640" y="2349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35280" y="342900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234936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76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1700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92428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437000"/>
            <a:ext cx="43164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5589720"/>
            <a:ext cx="43164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484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328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51640" y="476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49228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41300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51640" y="1700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51640" y="2924280"/>
            <a:ext cx="432000" cy="431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24720" y="4437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51640" y="5661000"/>
            <a:ext cx="432000" cy="43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-2-4-10-11-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-3-8-9-12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21:00:09Z</dcterms:created>
  <dc:creator>Helen</dc:creator>
  <dc:description/>
  <dc:language>en-US</dc:language>
  <cp:lastModifiedBy>Katy Oliver</cp:lastModifiedBy>
  <dcterms:modified xsi:type="dcterms:W3CDTF">2012-01-25T14:29:26Z</dcterms:modified>
  <cp:revision>4</cp:revision>
  <dc:subject/>
  <dc:title>Slide 1</dc:title>
</cp:coreProperties>
</file>